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6543-B07D-41C4-8CF1-BA71FAB1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534C-DB4F-4C80-9074-41871FA6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4CBF-CE52-4B9C-BF28-2E7A3665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A871-7C7C-452F-8DDE-6F00BE17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2EDC-ED07-4419-B78A-6684ADFA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0C1B-2328-4BA0-93F6-BABCED02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2B81-9820-43F2-A30E-0829D9FA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D66A-3986-4422-8A45-57EC66EA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2F0A-B6C6-4253-9F8E-2990BFA0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850C-8EE8-4383-A280-3048980E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F57C-BC8C-433B-A467-B719E6B9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FECB-38C6-43D2-AECF-1351527C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D893-DC74-4DE3-9D9F-235BEB9EC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1790640"/>
            <a:ext cx="8388360" cy="32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61899" dir="2700000" blurRad="0" rotWithShape="0">
                    <a:srgbClr val="9966ff"/>
                  </a:outerShdw>
                </a:effectLst>
                <a:latin typeface="Arial Black"/>
              </a:rPr>
              <a:t>Plotting Points</a:t>
            </a:r>
            <a:endParaRPr b="0" lang="en-US" sz="1800" spc="1" strike="noStrike">
              <a:ln w="2556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61899" dir="2700000" blurRad="0" rotWithShape="0">
                  <a:srgbClr val="9966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-289080" y="-34920"/>
            <a:ext cx="9722160" cy="6892920"/>
            <a:chOff x="-289080" y="-34920"/>
            <a:chExt cx="9722160" cy="6892920"/>
          </a:xfrm>
        </p:grpSpPr>
        <p:grpSp>
          <p:nvGrpSpPr>
            <p:cNvPr id="43" name=""/>
            <p:cNvGrpSpPr/>
            <p:nvPr/>
          </p:nvGrpSpPr>
          <p:grpSpPr>
            <a:xfrm>
              <a:off x="-289080" y="-34920"/>
              <a:ext cx="9722160" cy="6892920"/>
              <a:chOff x="-289080" y="-34920"/>
              <a:chExt cx="9722160" cy="6892920"/>
            </a:xfrm>
          </p:grpSpPr>
          <p:sp>
            <p:nvSpPr>
              <p:cNvPr id="44" name=""/>
              <p:cNvSpPr/>
              <p:nvPr/>
            </p:nvSpPr>
            <p:spPr>
              <a:xfrm>
                <a:off x="-289080" y="6265800"/>
                <a:ext cx="9433080" cy="34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V="1">
                <a:off x="971640" y="217440"/>
                <a:ext cx="0" cy="6632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692360" y="6085080"/>
                <a:ext cx="0" cy="18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376360" y="6083280"/>
                <a:ext cx="0" cy="18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132000" y="6085080"/>
                <a:ext cx="0" cy="18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851280" y="6085080"/>
                <a:ext cx="0" cy="18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572000" y="6083280"/>
                <a:ext cx="0" cy="18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292720" y="6085080"/>
                <a:ext cx="0" cy="18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012000" y="6085080"/>
                <a:ext cx="0" cy="18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732720" y="6120000"/>
                <a:ext cx="0" cy="18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416720" y="6120000"/>
                <a:ext cx="0" cy="18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172360" y="6120000"/>
                <a:ext cx="0" cy="18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971640" y="5581800"/>
                <a:ext cx="180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50920" y="6085080"/>
                <a:ext cx="0" cy="18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971640" y="4861080"/>
                <a:ext cx="180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969480" y="4141800"/>
                <a:ext cx="181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969480" y="3457440"/>
                <a:ext cx="181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969480" y="2700360"/>
                <a:ext cx="181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969480" y="1981080"/>
                <a:ext cx="181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969480" y="1260360"/>
                <a:ext cx="181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5581800"/>
                <a:ext cx="94330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4861080"/>
                <a:ext cx="94330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4141800"/>
                <a:ext cx="94330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-73080" y="3421080"/>
                <a:ext cx="94330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-73080" y="2700360"/>
                <a:ext cx="94330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-73080" y="1981080"/>
                <a:ext cx="94330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-73080" y="1260360"/>
                <a:ext cx="94330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-73080" y="539640"/>
                <a:ext cx="94330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50920" y="-7920"/>
                <a:ext cx="0" cy="6858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969840" y="-7920"/>
                <a:ext cx="1800" cy="6858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92360" y="-7920"/>
                <a:ext cx="0" cy="6858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409840" y="-34920"/>
                <a:ext cx="0" cy="6858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29120" y="-34920"/>
                <a:ext cx="1440" cy="6858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851280" y="-34920"/>
                <a:ext cx="0" cy="6858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572000" y="-15840"/>
                <a:ext cx="0" cy="6858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291280" y="-15840"/>
                <a:ext cx="1440" cy="6858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3440" y="-15840"/>
                <a:ext cx="0" cy="6858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730920" y="0"/>
                <a:ext cx="0" cy="6858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450200" y="0"/>
                <a:ext cx="1440" cy="6858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172360" y="0"/>
                <a:ext cx="0" cy="6858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891640" y="-34920"/>
                <a:ext cx="0" cy="6858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-34920" y="5700600"/>
              <a:ext cx="892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ahoma"/>
                </a:rPr>
                <a:t>-1              1     2       3     4      5      6      7      8      9      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91160" y="973080"/>
              <a:ext cx="35460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200" y="6264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701920" y="6264360"/>
              <a:ext cx="37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200" spc="-1" strike="noStrike">
                  <a:solidFill>
                    <a:srgbClr val="000000"/>
                  </a:solidFill>
                  <a:latin typeface="Arial Black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0760" y="-7920"/>
              <a:ext cx="37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200" spc="-1" strike="noStrike">
                  <a:solidFill>
                    <a:srgbClr val="000000"/>
                  </a:solidFill>
                  <a:latin typeface="Arial Black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268360" y="4076280"/>
            <a:ext cx="216000" cy="144720"/>
            <a:chOff x="2268360" y="4076280"/>
            <a:chExt cx="216000" cy="144720"/>
          </a:xfrm>
        </p:grpSpPr>
        <p:sp>
          <p:nvSpPr>
            <p:cNvPr id="91" name=""/>
            <p:cNvSpPr/>
            <p:nvPr/>
          </p:nvSpPr>
          <p:spPr>
            <a:xfrm>
              <a:off x="2268360" y="407664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2268360" y="407628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976400" y="36450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186520" y="4797000"/>
            <a:ext cx="215640" cy="144720"/>
            <a:chOff x="5186520" y="4797000"/>
            <a:chExt cx="215640" cy="144720"/>
          </a:xfrm>
        </p:grpSpPr>
        <p:sp>
          <p:nvSpPr>
            <p:cNvPr id="95" name=""/>
            <p:cNvSpPr/>
            <p:nvPr/>
          </p:nvSpPr>
          <p:spPr>
            <a:xfrm>
              <a:off x="5186520" y="4797360"/>
              <a:ext cx="21564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5186520" y="4797000"/>
              <a:ext cx="21564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934160" y="434664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6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471920" y="2606400"/>
            <a:ext cx="216000" cy="144720"/>
            <a:chOff x="4471920" y="2606400"/>
            <a:chExt cx="216000" cy="144720"/>
          </a:xfrm>
        </p:grpSpPr>
        <p:sp>
          <p:nvSpPr>
            <p:cNvPr id="99" name=""/>
            <p:cNvSpPr/>
            <p:nvPr/>
          </p:nvSpPr>
          <p:spPr>
            <a:xfrm>
              <a:off x="4471920" y="260676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471920" y="260640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614840" y="214956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5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025800" y="3352320"/>
            <a:ext cx="216000" cy="144720"/>
            <a:chOff x="3025800" y="3352320"/>
            <a:chExt cx="216000" cy="144720"/>
          </a:xfrm>
        </p:grpSpPr>
        <p:sp>
          <p:nvSpPr>
            <p:cNvPr id="103" name=""/>
            <p:cNvSpPr/>
            <p:nvPr/>
          </p:nvSpPr>
          <p:spPr>
            <a:xfrm>
              <a:off x="3025800" y="335268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3025800" y="335232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168720" y="289548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3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620040" y="3322440"/>
            <a:ext cx="215640" cy="144720"/>
            <a:chOff x="6620040" y="3322440"/>
            <a:chExt cx="215640" cy="144720"/>
          </a:xfrm>
        </p:grpSpPr>
        <p:sp>
          <p:nvSpPr>
            <p:cNvPr id="107" name=""/>
            <p:cNvSpPr/>
            <p:nvPr/>
          </p:nvSpPr>
          <p:spPr>
            <a:xfrm>
              <a:off x="6620040" y="3322800"/>
              <a:ext cx="21564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20040" y="3322440"/>
              <a:ext cx="21564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762960" y="28656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8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343640" y="4066920"/>
            <a:ext cx="216000" cy="144720"/>
            <a:chOff x="7343640" y="4066920"/>
            <a:chExt cx="216000" cy="144720"/>
          </a:xfrm>
        </p:grpSpPr>
        <p:sp>
          <p:nvSpPr>
            <p:cNvPr id="111" name=""/>
            <p:cNvSpPr/>
            <p:nvPr/>
          </p:nvSpPr>
          <p:spPr>
            <a:xfrm>
              <a:off x="7343640" y="406728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7343640" y="406692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7486920" y="361008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9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590840" y="1920600"/>
            <a:ext cx="215640" cy="144720"/>
            <a:chOff x="1590840" y="1920600"/>
            <a:chExt cx="215640" cy="144720"/>
          </a:xfrm>
        </p:grpSpPr>
        <p:sp>
          <p:nvSpPr>
            <p:cNvPr id="115" name=""/>
            <p:cNvSpPr/>
            <p:nvPr/>
          </p:nvSpPr>
          <p:spPr>
            <a:xfrm>
              <a:off x="1590840" y="1920960"/>
              <a:ext cx="21564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590840" y="1920600"/>
              <a:ext cx="21564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733760" y="146376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1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-864000" y="-1682640"/>
            <a:ext cx="10008000" cy="9431280"/>
            <a:chOff x="-864000" y="-1682640"/>
            <a:chExt cx="10008000" cy="9431280"/>
          </a:xfrm>
        </p:grpSpPr>
        <p:grpSp>
          <p:nvGrpSpPr>
            <p:cNvPr id="119" name=""/>
            <p:cNvGrpSpPr/>
            <p:nvPr/>
          </p:nvGrpSpPr>
          <p:grpSpPr>
            <a:xfrm>
              <a:off x="-864000" y="-1682640"/>
              <a:ext cx="10008000" cy="9431280"/>
              <a:chOff x="-864000" y="-1682640"/>
              <a:chExt cx="10008000" cy="943128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2555640" y="-1574640"/>
                <a:ext cx="2987640" cy="9144000"/>
                <a:chOff x="2555640" y="-1574640"/>
                <a:chExt cx="2987640" cy="91440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2555640" y="-1574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987640" y="-1574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419280" y="-1574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852720" y="-1574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284360" y="-1574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716360" y="-1574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111640" y="-1574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543280" y="-1574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"/>
              <p:cNvSpPr/>
              <p:nvPr/>
            </p:nvSpPr>
            <p:spPr>
              <a:xfrm>
                <a:off x="0" y="299736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256536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70028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26828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83664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429264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386064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342900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-34920" y="555300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-34920" y="512136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-34920" y="468936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-36360" y="684864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-36360" y="641664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-36360" y="598500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44136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936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3429000"/>
                <a:ext cx="9144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3851280" y="151920"/>
                <a:ext cx="0" cy="6705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5940000" y="-1682640"/>
                <a:ext cx="2987640" cy="9144000"/>
                <a:chOff x="5940000" y="-1682640"/>
                <a:chExt cx="2987640" cy="914400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940000" y="-1682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372000" y="-1682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803640" y="-1682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237080" y="-1682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68720" y="-1682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100720" y="-1682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496000" y="-1682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927640" y="-1682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-864000" y="-1395360"/>
                <a:ext cx="2987640" cy="9144000"/>
                <a:chOff x="-864000" y="-1395360"/>
                <a:chExt cx="2987640" cy="91440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-864000" y="-139536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-432000" y="-139536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-360" y="-139536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33080" y="-139536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864720" y="-139536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296720" y="-139536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692000" y="-139536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123640" y="-139536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6" name=""/>
            <p:cNvSpPr/>
            <p:nvPr/>
          </p:nvSpPr>
          <p:spPr>
            <a:xfrm>
              <a:off x="202680" y="3033720"/>
              <a:ext cx="85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8    -7    -6   -5   -4    -3   -2    -1           1     2    3     4     5    6     7     8    9    10   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8472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1636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0696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4976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8176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7236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1048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4212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3272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10108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3272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6212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9412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8472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0176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3340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2400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92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656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5716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1280" y="299736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51280" y="256860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51280" y="213372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51280" y="472428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51280" y="429588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51280" y="386064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51280" y="598500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51280" y="555624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51280" y="512136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51280" y="685332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51280" y="641844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51280" y="170028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51280" y="127152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51280" y="83664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26160" y="611280"/>
              <a:ext cx="383400" cy="59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31120" y="3105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53760" y="347184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34800" y="-633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311640" y="764640"/>
            <a:ext cx="215640" cy="144720"/>
            <a:chOff x="3311640" y="764640"/>
            <a:chExt cx="215640" cy="144720"/>
          </a:xfrm>
        </p:grpSpPr>
        <p:sp>
          <p:nvSpPr>
            <p:cNvPr id="206" name=""/>
            <p:cNvSpPr/>
            <p:nvPr/>
          </p:nvSpPr>
          <p:spPr>
            <a:xfrm>
              <a:off x="3311640" y="765000"/>
              <a:ext cx="21564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311640" y="764640"/>
              <a:ext cx="21564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832360" y="5481360"/>
            <a:ext cx="216000" cy="144720"/>
            <a:chOff x="5832360" y="5481360"/>
            <a:chExt cx="216000" cy="144720"/>
          </a:xfrm>
        </p:grpSpPr>
        <p:sp>
          <p:nvSpPr>
            <p:cNvPr id="209" name=""/>
            <p:cNvSpPr/>
            <p:nvPr/>
          </p:nvSpPr>
          <p:spPr>
            <a:xfrm>
              <a:off x="5832360" y="548172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5832360" y="548136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879640" y="5913000"/>
            <a:ext cx="216000" cy="144720"/>
            <a:chOff x="2879640" y="5913000"/>
            <a:chExt cx="216000" cy="144720"/>
          </a:xfrm>
        </p:grpSpPr>
        <p:sp>
          <p:nvSpPr>
            <p:cNvPr id="212" name=""/>
            <p:cNvSpPr/>
            <p:nvPr/>
          </p:nvSpPr>
          <p:spPr>
            <a:xfrm>
              <a:off x="2879640" y="591336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2879640" y="591300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448000" y="4220640"/>
            <a:ext cx="216000" cy="144720"/>
            <a:chOff x="2448000" y="4220640"/>
            <a:chExt cx="216000" cy="144720"/>
          </a:xfrm>
        </p:grpSpPr>
        <p:sp>
          <p:nvSpPr>
            <p:cNvPr id="215" name=""/>
            <p:cNvSpPr/>
            <p:nvPr/>
          </p:nvSpPr>
          <p:spPr>
            <a:xfrm>
              <a:off x="2448000" y="422100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2448000" y="422064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8388360" y="5049360"/>
            <a:ext cx="216000" cy="144720"/>
            <a:chOff x="8388360" y="5049360"/>
            <a:chExt cx="216000" cy="144720"/>
          </a:xfrm>
        </p:grpSpPr>
        <p:sp>
          <p:nvSpPr>
            <p:cNvPr id="218" name=""/>
            <p:cNvSpPr/>
            <p:nvPr/>
          </p:nvSpPr>
          <p:spPr>
            <a:xfrm>
              <a:off x="8388360" y="504972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8388360" y="504936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619280" y="3355560"/>
            <a:ext cx="216000" cy="144720"/>
            <a:chOff x="1619280" y="3355560"/>
            <a:chExt cx="216000" cy="144720"/>
          </a:xfrm>
        </p:grpSpPr>
        <p:sp>
          <p:nvSpPr>
            <p:cNvPr id="221" name=""/>
            <p:cNvSpPr/>
            <p:nvPr/>
          </p:nvSpPr>
          <p:spPr>
            <a:xfrm>
              <a:off x="1619280" y="335592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1619280" y="335556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743280" y="4220640"/>
            <a:ext cx="216000" cy="144720"/>
            <a:chOff x="3743280" y="4220640"/>
            <a:chExt cx="216000" cy="144720"/>
          </a:xfrm>
        </p:grpSpPr>
        <p:sp>
          <p:nvSpPr>
            <p:cNvPr id="224" name=""/>
            <p:cNvSpPr/>
            <p:nvPr/>
          </p:nvSpPr>
          <p:spPr>
            <a:xfrm>
              <a:off x="3743280" y="422100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3743280" y="422064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832360" y="2060280"/>
            <a:ext cx="216000" cy="144720"/>
            <a:chOff x="5832360" y="2060280"/>
            <a:chExt cx="216000" cy="144720"/>
          </a:xfrm>
        </p:grpSpPr>
        <p:sp>
          <p:nvSpPr>
            <p:cNvPr id="227" name=""/>
            <p:cNvSpPr/>
            <p:nvPr/>
          </p:nvSpPr>
          <p:spPr>
            <a:xfrm>
              <a:off x="5832360" y="206064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5832360" y="206028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016000" y="2060280"/>
            <a:ext cx="216000" cy="144720"/>
            <a:chOff x="2016000" y="2060280"/>
            <a:chExt cx="216000" cy="144720"/>
          </a:xfrm>
        </p:grpSpPr>
        <p:sp>
          <p:nvSpPr>
            <p:cNvPr id="230" name=""/>
            <p:cNvSpPr/>
            <p:nvPr/>
          </p:nvSpPr>
          <p:spPr>
            <a:xfrm>
              <a:off x="2016000" y="206064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016000" y="206028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975640" y="160344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5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8560" y="50497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5,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96360" y="383868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-3,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81920" y="406404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0,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40360" y="276876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-5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02440" y="160344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-4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20360" y="550692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-2,-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39040" y="39384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-1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855920" y="4664160"/>
            <a:ext cx="10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11,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-864000" y="-1682640"/>
            <a:ext cx="10008000" cy="9431280"/>
            <a:chOff x="-864000" y="-1682640"/>
            <a:chExt cx="10008000" cy="9431280"/>
          </a:xfrm>
        </p:grpSpPr>
        <p:grpSp>
          <p:nvGrpSpPr>
            <p:cNvPr id="242" name=""/>
            <p:cNvGrpSpPr/>
            <p:nvPr/>
          </p:nvGrpSpPr>
          <p:grpSpPr>
            <a:xfrm>
              <a:off x="-864000" y="-1682640"/>
              <a:ext cx="10008000" cy="9431280"/>
              <a:chOff x="-864000" y="-1682640"/>
              <a:chExt cx="10008000" cy="943128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2555640" y="-1574640"/>
                <a:ext cx="2987640" cy="9144000"/>
                <a:chOff x="2555640" y="-1574640"/>
                <a:chExt cx="2987640" cy="91440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555640" y="-1574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987640" y="-1574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419280" y="-1574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52720" y="-1574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284360" y="-1574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716360" y="-1574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111640" y="-1574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543280" y="-1574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>
                <a:off x="0" y="299736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256536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170028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0" y="126828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83664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0" y="429264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386064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342900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-34920" y="555300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-34920" y="512136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-34920" y="468936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-36360" y="684864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-36360" y="641664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-36360" y="598500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44136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0" y="936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3429000"/>
                <a:ext cx="9144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3851280" y="151920"/>
                <a:ext cx="0" cy="6705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5940000" y="-1682640"/>
                <a:ext cx="2987640" cy="9144000"/>
                <a:chOff x="5940000" y="-1682640"/>
                <a:chExt cx="2987640" cy="914400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5940000" y="-1682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372000" y="-1682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803640" y="-1682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237080" y="-1682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668720" y="-1682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00720" y="-1682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496000" y="-1682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927640" y="-1682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-864000" y="-1395360"/>
                <a:ext cx="2987640" cy="9144000"/>
                <a:chOff x="-864000" y="-1395360"/>
                <a:chExt cx="2987640" cy="914400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-864000" y="-139536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-432000" y="-139536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-360" y="-139536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33080" y="-139536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864720" y="-139536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296720" y="-139536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692000" y="-139536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123640" y="-139536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202680" y="3033720"/>
              <a:ext cx="85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8    -7    -6   -5   -4    -3   -2    -1           1     2    3     4     5    6     7     8    9    10   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8472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1636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10696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4976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98176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7236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81048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4212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3272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10108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53272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6212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99412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8472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30176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3340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2400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492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656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5716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51280" y="299736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51280" y="256860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51280" y="213372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51280" y="472428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51280" y="429588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51280" y="386064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51280" y="598500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51280" y="555624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1280" y="512136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51280" y="685332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51280" y="641844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51280" y="170028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51280" y="127152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51280" y="83664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26160" y="611280"/>
              <a:ext cx="383400" cy="59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31120" y="3105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753760" y="347184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34800" y="-633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79640" y="1195200"/>
            <a:ext cx="216000" cy="144720"/>
            <a:chOff x="2879640" y="1195200"/>
            <a:chExt cx="216000" cy="144720"/>
          </a:xfrm>
        </p:grpSpPr>
        <p:sp>
          <p:nvSpPr>
            <p:cNvPr id="329" name=""/>
            <p:cNvSpPr/>
            <p:nvPr/>
          </p:nvSpPr>
          <p:spPr>
            <a:xfrm>
              <a:off x="2879640" y="119556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879640" y="119520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832360" y="4220640"/>
            <a:ext cx="216000" cy="144720"/>
            <a:chOff x="5832360" y="4220640"/>
            <a:chExt cx="216000" cy="144720"/>
          </a:xfrm>
        </p:grpSpPr>
        <p:sp>
          <p:nvSpPr>
            <p:cNvPr id="332" name=""/>
            <p:cNvSpPr/>
            <p:nvPr/>
          </p:nvSpPr>
          <p:spPr>
            <a:xfrm>
              <a:off x="5832360" y="422100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832360" y="422064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24000" y="5049360"/>
            <a:ext cx="215640" cy="144720"/>
            <a:chOff x="324000" y="5049360"/>
            <a:chExt cx="215640" cy="144720"/>
          </a:xfrm>
        </p:grpSpPr>
        <p:sp>
          <p:nvSpPr>
            <p:cNvPr id="335" name=""/>
            <p:cNvSpPr/>
            <p:nvPr/>
          </p:nvSpPr>
          <p:spPr>
            <a:xfrm>
              <a:off x="324000" y="5049720"/>
              <a:ext cx="21564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24000" y="5049360"/>
              <a:ext cx="21564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016000" y="4615920"/>
            <a:ext cx="216000" cy="144720"/>
            <a:chOff x="2016000" y="4615920"/>
            <a:chExt cx="216000" cy="144720"/>
          </a:xfrm>
        </p:grpSpPr>
        <p:sp>
          <p:nvSpPr>
            <p:cNvPr id="338" name=""/>
            <p:cNvSpPr/>
            <p:nvPr/>
          </p:nvSpPr>
          <p:spPr>
            <a:xfrm>
              <a:off x="2016000" y="461628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016000" y="461592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561440" y="4615920"/>
            <a:ext cx="215640" cy="144720"/>
            <a:chOff x="7561440" y="4615920"/>
            <a:chExt cx="215640" cy="144720"/>
          </a:xfrm>
        </p:grpSpPr>
        <p:sp>
          <p:nvSpPr>
            <p:cNvPr id="341" name=""/>
            <p:cNvSpPr/>
            <p:nvPr/>
          </p:nvSpPr>
          <p:spPr>
            <a:xfrm>
              <a:off x="7561440" y="4616280"/>
              <a:ext cx="21564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7561440" y="4615920"/>
              <a:ext cx="21564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276720" y="3355560"/>
            <a:ext cx="215640" cy="144720"/>
            <a:chOff x="3276720" y="3355560"/>
            <a:chExt cx="215640" cy="144720"/>
          </a:xfrm>
        </p:grpSpPr>
        <p:sp>
          <p:nvSpPr>
            <p:cNvPr id="344" name=""/>
            <p:cNvSpPr/>
            <p:nvPr/>
          </p:nvSpPr>
          <p:spPr>
            <a:xfrm>
              <a:off x="3276720" y="3355920"/>
              <a:ext cx="21564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3276720" y="3355560"/>
              <a:ext cx="21564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743280" y="5481360"/>
            <a:ext cx="216000" cy="144720"/>
            <a:chOff x="3743280" y="5481360"/>
            <a:chExt cx="216000" cy="144720"/>
          </a:xfrm>
        </p:grpSpPr>
        <p:sp>
          <p:nvSpPr>
            <p:cNvPr id="347" name=""/>
            <p:cNvSpPr/>
            <p:nvPr/>
          </p:nvSpPr>
          <p:spPr>
            <a:xfrm>
              <a:off x="3743280" y="548172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3743280" y="548136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998960" y="1195200"/>
            <a:ext cx="216000" cy="144720"/>
            <a:chOff x="4998960" y="1195200"/>
            <a:chExt cx="216000" cy="144720"/>
          </a:xfrm>
        </p:grpSpPr>
        <p:sp>
          <p:nvSpPr>
            <p:cNvPr id="350" name=""/>
            <p:cNvSpPr/>
            <p:nvPr/>
          </p:nvSpPr>
          <p:spPr>
            <a:xfrm>
              <a:off x="4998960" y="119556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4998960" y="119520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757080" y="2060280"/>
            <a:ext cx="216000" cy="144720"/>
            <a:chOff x="757080" y="2060280"/>
            <a:chExt cx="216000" cy="144720"/>
          </a:xfrm>
        </p:grpSpPr>
        <p:sp>
          <p:nvSpPr>
            <p:cNvPr id="353" name=""/>
            <p:cNvSpPr/>
            <p:nvPr/>
          </p:nvSpPr>
          <p:spPr>
            <a:xfrm>
              <a:off x="757080" y="206064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57080" y="206028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4946760" y="81108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3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26680" y="383544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5,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799640" y="423216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-4,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21480" y="50958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0,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781720" y="34290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-1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41720" y="162864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-7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6000" y="466416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-8,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30800" y="73836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-2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379280" y="418464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9,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672240" y="2060280"/>
            <a:ext cx="216000" cy="144720"/>
            <a:chOff x="6672240" y="2060280"/>
            <a:chExt cx="216000" cy="144720"/>
          </a:xfrm>
        </p:grpSpPr>
        <p:sp>
          <p:nvSpPr>
            <p:cNvPr id="365" name=""/>
            <p:cNvSpPr/>
            <p:nvPr/>
          </p:nvSpPr>
          <p:spPr>
            <a:xfrm>
              <a:off x="6672240" y="206064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672240" y="206028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872400" y="160344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7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5003640" y="3355560"/>
            <a:ext cx="216000" cy="144720"/>
            <a:chOff x="5003640" y="3355560"/>
            <a:chExt cx="216000" cy="144720"/>
          </a:xfrm>
        </p:grpSpPr>
        <p:sp>
          <p:nvSpPr>
            <p:cNvPr id="369" name=""/>
            <p:cNvSpPr/>
            <p:nvPr/>
          </p:nvSpPr>
          <p:spPr>
            <a:xfrm>
              <a:off x="5003640" y="335592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5003640" y="335556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4784760" y="34290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3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743280" y="2455560"/>
            <a:ext cx="216000" cy="144720"/>
            <a:chOff x="3743280" y="2455560"/>
            <a:chExt cx="216000" cy="144720"/>
          </a:xfrm>
        </p:grpSpPr>
        <p:sp>
          <p:nvSpPr>
            <p:cNvPr id="373" name=""/>
            <p:cNvSpPr/>
            <p:nvPr/>
          </p:nvSpPr>
          <p:spPr>
            <a:xfrm>
              <a:off x="3743280" y="245592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3743280" y="245556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948040" y="225108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0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22:52:37Z</dcterms:created>
  <dc:creator>T MADAS</dc:creator>
  <dc:description/>
  <dc:language>en-US</dc:language>
  <cp:lastModifiedBy>Trifon</cp:lastModifiedBy>
  <dcterms:modified xsi:type="dcterms:W3CDTF">2003-11-11T15:53:49Z</dcterms:modified>
  <cp:revision>3</cp:revision>
  <dc:subject/>
  <dc:title>Slide 1</dc:title>
</cp:coreProperties>
</file>